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BCDB4-981A-4158-A0EB-75AAB817D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9CB52-8D15-46C0-9C38-0F277EB4D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BDBA5-AC53-406A-A2B4-52CD767E8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EF4BB-8021-4933-BA7A-28C6926E8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82534-1AAA-4D1A-A8EE-5A884297F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47387-860A-495E-816F-D4ADFB644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E0C9C-914E-4448-AA9F-D37109B58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EBB83-936C-4B39-B1BF-B470F32F7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6FEB2-3157-46EE-9BC6-EAD37F7E5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9F48F-D567-44A6-8D8C-D4B07116B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C88D1-ADEA-4688-B33C-C6C6C88A9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53E39-E2DD-4122-9381-10C007CBB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69066-EB9D-4AEA-8AB5-1A8552833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63F4C-FAEA-4075-8964-90B70D7A6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73025-9DAF-4FE7-A01B-D81D1DE41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B5820-8A71-4895-A0AE-B77C4AE13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6F974-E2D9-4AA2-B08C-D73CD4D14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09D67-E180-4FEA-84D3-4DFC9453F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929C9-C4D4-4876-B57D-51593B510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93C87-7A9B-4E1F-A9E6-F172EA221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02B41-AA03-42B4-B2A3-806075190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F58B4-2DD5-4A9E-A5AB-61C11D6CC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08944-1A6C-4CEF-BE2B-D50026735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0E1EC-0DBA-458A-A443-2E046377E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F81BB-C74B-4688-AF61-AFB60BD867B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40A36-11F8-4C6B-90A1-FBBE35CD61C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Operációs Rendszerek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Interaktív rendszerek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Az eddigi rendszerek nem támogatták a programok fejlesztésé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A programfejlesztés hatékonysága ugrásszerűen növekedett, amikor megjelentek az interaktív terminálo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Az oprendszerre háruló feladatok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Válaszidő: a felhasználó számára elfogadhatónak kellet lenni óra </a:t>
            </a:r>
            <a:r>
              <a:rPr b="0" lang="hu-HU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 m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Időosztás: nem csak akkor van adminisztratív feladat amikor a program írni v. olvasni akar, hanem a felhasználókkal is foglalkozni ke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Felhasználói felület: Parancsértelmező, felhasználóbará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Felhasználói adminisztráció: jogosultságok, kommunikáció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Személyi számítógépek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70-es években a hangsúly áttevődött a processzor fontosságáról a felhasználó fontosságár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rafikus felül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YSIWY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203640" y="3429000"/>
            <a:ext cx="2663640" cy="720720"/>
          </a:xfrm>
          <a:prstGeom prst="flowChartProcess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XEROX – Alter 8800 197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971640" y="4797360"/>
            <a:ext cx="2087640" cy="1584360"/>
          </a:xfrm>
          <a:prstGeom prst="flowChartProcess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BM-PC 1981 Program fejlesztési támogatá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492360" y="4797360"/>
            <a:ext cx="2087640" cy="1584360"/>
          </a:xfrm>
          <a:prstGeom prst="flowChartProcess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Apple – Macintosh 1982 Grafikus felhasználói felül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940360" y="4797360"/>
            <a:ext cx="2087640" cy="1584360"/>
          </a:xfrm>
          <a:prstGeom prst="flowChartProcess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Novell – NetWare 1984 Lokális hálózato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4" idx="2"/>
            <a:endCxn id="196" idx="0"/>
          </p:cNvCxnSpPr>
          <p:nvPr/>
        </p:nvCxnSpPr>
        <p:spPr>
          <a:xfrm>
            <a:off x="4535640" y="4149360"/>
            <a:ext cx="2160" cy="64836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199" name=""/>
          <p:cNvCxnSpPr>
            <a:stCxn id="194" idx="2"/>
            <a:endCxn id="195" idx="0"/>
          </p:cNvCxnSpPr>
          <p:nvPr/>
        </p:nvCxnSpPr>
        <p:spPr>
          <a:xfrm rot="5400000">
            <a:off x="2951280" y="3213360"/>
            <a:ext cx="648360" cy="252036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200" name=""/>
          <p:cNvCxnSpPr>
            <a:stCxn id="194" idx="2"/>
            <a:endCxn id="197" idx="0"/>
          </p:cNvCxnSpPr>
          <p:nvPr/>
        </p:nvCxnSpPr>
        <p:spPr>
          <a:xfrm flipH="1" rot="16200000">
            <a:off x="5436360" y="3248640"/>
            <a:ext cx="648360" cy="244980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UNIX operációs rendszer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332000" y="1628640"/>
            <a:ext cx="6696000" cy="1152720"/>
          </a:xfrm>
          <a:prstGeom prst="rect">
            <a:avLst/>
          </a:prstGeom>
          <a:solidFill>
            <a:srgbClr val="3399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332000" y="3068640"/>
            <a:ext cx="6696000" cy="1152360"/>
          </a:xfrm>
          <a:prstGeom prst="rect">
            <a:avLst/>
          </a:prstGeom>
          <a:solidFill>
            <a:srgbClr val="3399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332000" y="4581360"/>
            <a:ext cx="6696000" cy="1152720"/>
          </a:xfrm>
          <a:prstGeom prst="rect">
            <a:avLst/>
          </a:prstGeom>
          <a:solidFill>
            <a:srgbClr val="3399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332000" y="1628640"/>
            <a:ext cx="1584360" cy="1152720"/>
          </a:xfrm>
          <a:prstGeom prst="rtTriangl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203640" y="3068640"/>
            <a:ext cx="1584360" cy="1152360"/>
          </a:xfrm>
          <a:prstGeom prst="rtTriangl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148360" y="4581360"/>
            <a:ext cx="1584360" cy="1152720"/>
          </a:xfrm>
          <a:prstGeom prst="rtTriangl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332000" y="3068640"/>
            <a:ext cx="1871640" cy="1152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332000" y="4581360"/>
            <a:ext cx="3816360" cy="1152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547640" y="2133720"/>
            <a:ext cx="1729080" cy="368280"/>
          </a:xfrm>
          <a:prstGeom prst="rect">
            <a:avLst/>
          </a:prstGeom>
          <a:solidFill>
            <a:srgbClr val="0101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Multic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564000" y="3645000"/>
            <a:ext cx="1224000" cy="368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I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516720" y="5013360"/>
            <a:ext cx="1224000" cy="368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I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16720" y="3500280"/>
            <a:ext cx="1224000" cy="368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I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516720" y="1989000"/>
            <a:ext cx="1224000" cy="368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I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788000" y="3716280"/>
            <a:ext cx="1728720" cy="217440"/>
          </a:xfrm>
          <a:prstGeom prst="rightArrow">
            <a:avLst>
              <a:gd name="adj1" fmla="val 50000"/>
              <a:gd name="adj2" fmla="val 198758"/>
            </a:avLst>
          </a:prstGeom>
          <a:solidFill>
            <a:srgbClr val="ff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9299000">
            <a:off x="4788000" y="2852640"/>
            <a:ext cx="1728720" cy="217440"/>
          </a:xfrm>
          <a:prstGeom prst="rightArrow">
            <a:avLst>
              <a:gd name="adj1" fmla="val 50000"/>
              <a:gd name="adj2" fmla="val 198758"/>
            </a:avLst>
          </a:prstGeom>
          <a:solidFill>
            <a:srgbClr val="ff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774200">
            <a:off x="4716360" y="4508280"/>
            <a:ext cx="1728720" cy="217440"/>
          </a:xfrm>
          <a:prstGeom prst="rightArrow">
            <a:avLst>
              <a:gd name="adj1" fmla="val 50000"/>
              <a:gd name="adj2" fmla="val 198758"/>
            </a:avLst>
          </a:prstGeom>
          <a:solidFill>
            <a:srgbClr val="ff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rot="12802200">
            <a:off x="2410560" y="2924280"/>
            <a:ext cx="1729080" cy="217440"/>
          </a:xfrm>
          <a:prstGeom prst="rightArrow">
            <a:avLst>
              <a:gd name="adj1" fmla="val 50000"/>
              <a:gd name="adj2" fmla="val 198800"/>
            </a:avLst>
          </a:prstGeom>
          <a:solidFill>
            <a:srgbClr val="ff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195640" y="2565360"/>
            <a:ext cx="0" cy="35276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692360" y="616572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96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40360" y="4005360"/>
            <a:ext cx="0" cy="223200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7093080" y="5445000"/>
            <a:ext cx="0" cy="64800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708360" y="6237360"/>
            <a:ext cx="934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635280" y="616572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97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6588000" y="6165720"/>
            <a:ext cx="10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98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0" y="1989000"/>
            <a:ext cx="1258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Arial"/>
              </a:rPr>
              <a:t>Mainfr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0" y="3500280"/>
            <a:ext cx="12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minicomput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0" y="5013360"/>
            <a:ext cx="12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ffffff"/>
                </a:solidFill>
                <a:latin typeface="Arial"/>
              </a:rPr>
              <a:t>microcomput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Többprocesszoros és Elosztott rendszerek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Lehetnek szimmetrikus és aszimmetrikus rendszere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Rugalmassá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Erőforrás megosztá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Sebességnövekedé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Megbizhatósá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Alapfogalmak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Folyamato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Erőforráso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Oprendszer meghatározáso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Oprendszerek szerkezete, szolgáltatása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Rendszermag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Rendszerhíváso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Megszakításkezelé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Virtuális gépe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Folyamatok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A program egy algoritmust megvalósító utasítások soroza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A folyamat (task, process) egy éppen végrehajtás alatt lévő progr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Multiprogramozott környezetben a folyamatok nem mindig futhatnak, hogy tovább tudjanak futni , ha ismét rájuk kerül a vezérlés néhány infót tárolni kell róluk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Folyamatok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A folyamatleíró blokk (process control block – PCB, task state segment – TSS) azonosítja egyértelműen a folyamatot és a következőket tartalmazza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Folyamat azonosító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Programszámláló állásá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Folyamat állapotá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Regiszterek tartalmá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Folyamathoz tartozó mem. Terület adatai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Használt perifériák , állományok jellemzői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Erőforrások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Minden ami egy folyamat végrehajtásához szükséges (memória, processzor, perifériák, állományok stb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Elvehető – megszakítható (preemptíve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Processz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Memór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Nem elvehető – nem megszakítható (non preemptiv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Állományo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Nyomtatók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Mágnesszalagos egysége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Erőforrások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cc"/>
                </a:solidFill>
                <a:latin typeface="Arial"/>
              </a:rPr>
              <a:t>Megszakítható (preemtive</a:t>
            </a:r>
            <a:r>
              <a:rPr b="0" lang="hu-HU" sz="2800" spc="-1" strike="noStrike">
                <a:solidFill>
                  <a:srgbClr val="ffffcc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A folyamatoktól az erőforrás a folyamat vagy az erőforrás károsodása nélkül elvehető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cc"/>
                </a:solidFill>
                <a:latin typeface="Arial"/>
              </a:rPr>
              <a:t>Nem megszakítható (non-preemtiv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Az erőforrás használat</a:t>
            </a: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félbeszakítása esetén a folyamat vagy az erőforrás sérülh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b2b2b2"/>
                </a:solidFill>
                <a:latin typeface="Arial"/>
              </a:rPr>
              <a:t>Oprendszer meghatározása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folyamatok egy olyan csoportja, amely a felhasználói folyamatok közt elosztja az erőforrásokat –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Erőforrás szemlél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folyamatok egy olyan csoportja, amely megkíméli a felhasználókat a hardver kezelés nehézségeitől és kellemesebb alkalmazói környezetet biztosít –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elhasználói szemlél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b2b2b2"/>
                </a:solidFill>
                <a:latin typeface="Arial"/>
              </a:rPr>
              <a:t>Oprendszerek fejlődés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kezdetek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ötegelt feldolgozá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öbbfeladatos rendszere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raktív rendszere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zemélyi Számítógépe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Szerkezete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042920" y="2276640"/>
            <a:ext cx="7274160" cy="208908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ndszermag (KERNEL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042920" y="1628640"/>
            <a:ext cx="7274160" cy="648000"/>
          </a:xfrm>
          <a:prstGeom prst="rect">
            <a:avLst/>
          </a:prstGeom>
          <a:solidFill>
            <a:srgbClr val="ff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Felhasználói programo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042920" y="4365720"/>
            <a:ext cx="7274160" cy="647640"/>
          </a:xfrm>
          <a:prstGeom prst="rect">
            <a:avLst/>
          </a:prstGeom>
          <a:solidFill>
            <a:srgbClr val="ff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Perifériá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643280" y="2276640"/>
            <a:ext cx="0" cy="792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643280" y="3573360"/>
            <a:ext cx="0" cy="792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332000" y="249228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ndszerhíváso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219640" y="2637000"/>
            <a:ext cx="273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álaszo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476360" y="393372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szközkezelők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148360" y="4005360"/>
            <a:ext cx="26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egszakítás kezelé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Szerkezete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116000" y="3284640"/>
            <a:ext cx="7273800" cy="208908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ndszermag (KERNEL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116000" y="2637000"/>
            <a:ext cx="7273800" cy="647640"/>
          </a:xfrm>
          <a:prstGeom prst="rect">
            <a:avLst/>
          </a:prstGeom>
          <a:solidFill>
            <a:srgbClr val="ff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Felhasználói folyamatok kiszolgálás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116000" y="5373720"/>
            <a:ext cx="7273800" cy="647640"/>
          </a:xfrm>
          <a:prstGeom prst="rect">
            <a:avLst/>
          </a:prstGeom>
          <a:solidFill>
            <a:srgbClr val="ff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Eszközvezérlő                                  Megszakítás vezérlő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716360" y="3284640"/>
            <a:ext cx="0" cy="792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4716360" y="4581360"/>
            <a:ext cx="0" cy="792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405080" y="350028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ndszerhíváso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5292720" y="364500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álaszo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549440" y="494172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szközkezelők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221440" y="5013360"/>
            <a:ext cx="26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egszakítás kezelé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116000" y="6021360"/>
            <a:ext cx="7273800" cy="647640"/>
          </a:xfrm>
          <a:prstGeom prst="rect">
            <a:avLst/>
          </a:prstGeom>
          <a:solidFill>
            <a:srgbClr val="ff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Perifériá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1116000" y="1341360"/>
            <a:ext cx="7273800" cy="647640"/>
          </a:xfrm>
          <a:prstGeom prst="rect">
            <a:avLst/>
          </a:prstGeom>
          <a:solidFill>
            <a:srgbClr val="ff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Felhasználói programo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116000" y="1989000"/>
            <a:ext cx="7273800" cy="648000"/>
          </a:xfrm>
          <a:prstGeom prst="rect">
            <a:avLst/>
          </a:prstGeom>
          <a:solidFill>
            <a:srgbClr val="ff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Programok készítési támogatá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Rendszermag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lyamatok sokassága , melyek a rendszer bekapcsolásakor jönnek létre, és futásuk a rendszer leállításáig ta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Rendszerhívások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Oprendszer és a felhasz. Folyamatok közti kommunikáció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User mode vs. Kernel mo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Kezdetek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z 1940-es években megjelent első elektronikus számítógépeknek még nem volt operációs rendszerük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z első tárolt program elvén működő számítógép 1949-ben Angliában készült, kapcsolók segítségével bitenként lehetett programozni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mechanikus programozási módszer nem csak a felhasználóknak volt kellemetlen, az igen drága gép sokat állt kihasználatlanu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z első magas szintű nyelv a FORTRAN megjelenésével a kezelendő feladatok köre is bővült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felhasználó a számára biztosított gépidőben szemtől szembe került a komputerrel, azt csinált vele amit akart (OPEN SHOP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OPEN SHOP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 felhasználó az előre lefoglalt gépidő kezdetén megérkezik a lyukkártya csomagg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egépeli a jelszavát a konzolírógépen, és ezzel törli a tár korábbi tartalmá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etölti a saját FORTRAN fordító kártyacsomagját, majd a programjá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a minden jól ment, akkor a kártyalyukasztón megjelentek a lefordított program kártyá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ár törlés, majd a lefordított program betölté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a rendben volt minden , akkor a konzolírógépen megjelent az eredmén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mainfrm"/>
          <p:cNvSpPr/>
          <p:nvPr/>
        </p:nvSpPr>
        <p:spPr>
          <a:xfrm>
            <a:off x="7740720" y="2205000"/>
            <a:ext cx="1204920" cy="2139840"/>
          </a:xfrm>
          <a:prstGeom prst="pi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Documents"/>
          <p:cNvSpPr/>
          <p:nvPr/>
        </p:nvSpPr>
        <p:spPr>
          <a:xfrm>
            <a:off x="6012000" y="2133720"/>
            <a:ext cx="874440" cy="963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859280" y="2060640"/>
            <a:ext cx="504720" cy="50472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148360" y="2565360"/>
            <a:ext cx="0" cy="1079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4787640" y="3645000"/>
            <a:ext cx="360360" cy="792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148360" y="3645000"/>
            <a:ext cx="360360" cy="863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859280" y="2852640"/>
            <a:ext cx="289080" cy="216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5076720" y="2852640"/>
            <a:ext cx="432000" cy="216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7956720" y="3141720"/>
            <a:ext cx="733320" cy="658800"/>
            <a:chOff x="7956720" y="3141720"/>
            <a:chExt cx="733320" cy="658800"/>
          </a:xfrm>
        </p:grpSpPr>
        <p:sp>
          <p:nvSpPr>
            <p:cNvPr id="115" name="Gear"/>
            <p:cNvSpPr/>
            <p:nvPr/>
          </p:nvSpPr>
          <p:spPr>
            <a:xfrm>
              <a:off x="8363160" y="3141720"/>
              <a:ext cx="326880" cy="302040"/>
            </a:xfrm>
            <a:prstGeom prst="pie">
              <a:avLst/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956720" y="3265920"/>
              <a:ext cx="390600" cy="361080"/>
            </a:xfrm>
            <a:prstGeom prst="pie">
              <a:avLst/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8210160" y="3399480"/>
              <a:ext cx="434160" cy="401040"/>
            </a:xfrm>
            <a:prstGeom prst="pie">
              <a:avLst/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8" name="Form"/>
          <p:cNvSpPr/>
          <p:nvPr/>
        </p:nvSpPr>
        <p:spPr>
          <a:xfrm>
            <a:off x="6227640" y="4869000"/>
            <a:ext cx="1121040" cy="13078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572000" y="4724280"/>
            <a:ext cx="144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elhasználó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877080" y="2205000"/>
            <a:ext cx="863640" cy="287280"/>
          </a:xfrm>
          <a:prstGeom prst="rightArrow">
            <a:avLst>
              <a:gd name="adj1" fmla="val 50000"/>
              <a:gd name="adj2" fmla="val 7515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7308720" y="4436640"/>
            <a:ext cx="1440000" cy="1297080"/>
          </a:xfrm>
          <a:custGeom>
            <a:avLst/>
            <a:gdLst>
              <a:gd name="textAreaLeft" fmla="*/ 0 w 1440000"/>
              <a:gd name="textAreaRight" fmla="*/ 1440000 w 1440000"/>
              <a:gd name="textAreaTop" fmla="*/ 0 h 1297080"/>
              <a:gd name="textAreaBottom" fmla="*/ 1297440 h 12970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ff33"/>
                                      </p:to>
                                    </p:animClr>
                                    <p:set>
                                      <p:cBhvr>
                                        <p:cTn id="10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99ff"/>
                                      </p:to>
                                    </p:animClr>
                                    <p:set>
                                      <p:cBhvr>
                                        <p:cTn id="14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4000"/>
                            </p:stCondLst>
                            <p:childTnLst>
                              <p:par>
                                <p:cTn id="1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ff33"/>
                                      </p:to>
                                    </p:animClr>
                                    <p:set>
                                      <p:cBhvr>
                                        <p:cTn id="20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6000"/>
                            </p:stCondLst>
                            <p:childTnLst>
                              <p:par>
                                <p:cTn id="22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6699"/>
                                      </p:to>
                                    </p:animClr>
                                    <p:set>
                                      <p:cBhvr>
                                        <p:cTn id="24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7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Kötegelt feldolgozá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A hatékonyság növelése érdekében a kezelők profizmusát növelni kellett, a műveletek közti átfedéseket pedig csökkenten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A megoldás : szakképzett OPERÁT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Rendszerezi a beérkezett munkáka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A felhasználók előtt így bezárult a gépterem ajtaja. (CLSED SHOP,Operator Driven SHOP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A kártyakötegek utasításait egymás után hajtotta végre a sz.gé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Kötegelt feldolgozá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075520" cy="118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Az operátor mechanikus munkáját kiküszöbölendő a Generál Motors létrehozta az első op . Rendszert, ún. </a:t>
            </a: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monítor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ower"/>
          <p:cNvSpPr/>
          <p:nvPr/>
        </p:nvSpPr>
        <p:spPr>
          <a:xfrm>
            <a:off x="2319480" y="2637000"/>
            <a:ext cx="904680" cy="345600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server"/>
          <p:cNvSpPr/>
          <p:nvPr/>
        </p:nvSpPr>
        <p:spPr>
          <a:xfrm>
            <a:off x="7093080" y="2637000"/>
            <a:ext cx="1809720" cy="362736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rot="16200000">
            <a:off x="6900840" y="3982680"/>
            <a:ext cx="459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rot="16200000">
            <a:off x="6500880" y="4309920"/>
            <a:ext cx="1728720" cy="3988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NIT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Documents"/>
          <p:cNvSpPr/>
          <p:nvPr/>
        </p:nvSpPr>
        <p:spPr>
          <a:xfrm rot="5400000">
            <a:off x="1204560" y="2979720"/>
            <a:ext cx="608040" cy="9320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Form"/>
          <p:cNvSpPr/>
          <p:nvPr/>
        </p:nvSpPr>
        <p:spPr>
          <a:xfrm>
            <a:off x="1042920" y="5373720"/>
            <a:ext cx="728640" cy="9237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computr1"/>
          <p:cNvSpPr/>
          <p:nvPr/>
        </p:nvSpPr>
        <p:spPr>
          <a:xfrm>
            <a:off x="971640" y="4221000"/>
            <a:ext cx="1063440" cy="61776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16200000">
            <a:off x="1408680" y="4648680"/>
            <a:ext cx="251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géd számítógé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979640" y="3500280"/>
            <a:ext cx="288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979640" y="450864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763640" y="5734080"/>
            <a:ext cx="576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0" y="3645000"/>
            <a:ext cx="879480" cy="90144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3718080" y="4052880"/>
            <a:ext cx="1081080" cy="57456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851280" y="4149720"/>
            <a:ext cx="227160" cy="19044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356000" y="4149720"/>
            <a:ext cx="227160" cy="19044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508720" y="4076640"/>
            <a:ext cx="1081080" cy="57456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641920" y="4173480"/>
            <a:ext cx="227160" cy="19044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146640" y="4173480"/>
            <a:ext cx="227160" cy="19044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203640" y="4365720"/>
            <a:ext cx="504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588000" y="4365720"/>
            <a:ext cx="505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788000" y="4221000"/>
            <a:ext cx="720720" cy="287640"/>
          </a:xfrm>
          <a:prstGeom prst="leftRightArrow">
            <a:avLst>
              <a:gd name="adj1" fmla="val 50000"/>
              <a:gd name="adj2" fmla="val 49880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4716360" y="4944960"/>
            <a:ext cx="879480" cy="90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Kötegelt feldolgozá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CPU és a perifériák közti sebesség különbség áthidalására , egy átmeneti tárolót hozta létre, (megszakítás kéré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z ilyen rendszerek a SPOOL rendszere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Többfeladatos rendszerek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Átlapolt rendszere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76360" y="3355920"/>
            <a:ext cx="503280" cy="368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979640" y="3355920"/>
            <a:ext cx="1008000" cy="36828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XE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987640" y="3355920"/>
            <a:ext cx="792360" cy="368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U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484360" y="2995560"/>
            <a:ext cx="503280" cy="368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987640" y="2995560"/>
            <a:ext cx="1008000" cy="36828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XE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995640" y="2995560"/>
            <a:ext cx="792360" cy="368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U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492360" y="2637000"/>
            <a:ext cx="503280" cy="368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995640" y="2637000"/>
            <a:ext cx="1008000" cy="36828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XE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003640" y="2637000"/>
            <a:ext cx="792360" cy="368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U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500720" y="2276640"/>
            <a:ext cx="502920" cy="368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003640" y="2276640"/>
            <a:ext cx="1008360" cy="36828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XE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012000" y="2276640"/>
            <a:ext cx="792000" cy="368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U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11280" y="4365720"/>
            <a:ext cx="822960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3000"/>
          </a:bodyPr>
          <a:p>
            <a:pPr marL="181800" indent="-18180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A többféle periféria, vmint a több feladat egyidejű kezelése változásokat indukált az oprendszer felődéséb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81800" indent="-18180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A kezelői felület mellett megjelentek állandó részek 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81800" indent="-18180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SHELL+KERNEL = OP. RENDSZ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81800" indent="-18180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1258920" y="1125360"/>
            <a:ext cx="1297080" cy="17989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szköz kezelő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1258200" y="2924280"/>
            <a:ext cx="1297080" cy="179856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egszakítás kezelő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556000" y="1125360"/>
            <a:ext cx="2447640" cy="35989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cesszor kezelés, Memória kezelés, Állománykezelés, Erőforrás kezelé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003640" y="1125360"/>
            <a:ext cx="1297080" cy="35989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ndszerhívások , válaszo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300720" y="1125360"/>
            <a:ext cx="1943280" cy="93528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JOB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300720" y="2060640"/>
            <a:ext cx="1943280" cy="9349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JOB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300720" y="2924280"/>
            <a:ext cx="1943280" cy="9349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JOB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300720" y="3789360"/>
            <a:ext cx="1943280" cy="9349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JOB 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700360" y="5373720"/>
            <a:ext cx="1008000" cy="57636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P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211640" y="5373720"/>
            <a:ext cx="1008000" cy="57636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E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32000" y="4724280"/>
            <a:ext cx="0" cy="6494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643280" y="4724280"/>
            <a:ext cx="0" cy="6494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24000" y="2421000"/>
            <a:ext cx="576000" cy="1079280"/>
          </a:xfrm>
          <a:prstGeom prst="can">
            <a:avLst>
              <a:gd name="adj" fmla="val 25000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50920" y="1197000"/>
            <a:ext cx="649080" cy="576360"/>
          </a:xfrm>
          <a:prstGeom prst="flowChartMultidocumen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411280" y="1484280"/>
            <a:ext cx="505080" cy="360360"/>
          </a:xfrm>
          <a:prstGeom prst="rightArrow">
            <a:avLst>
              <a:gd name="adj1" fmla="val 50000"/>
              <a:gd name="adj2" fmla="val 35040"/>
            </a:avLst>
          </a:prstGeom>
          <a:solidFill>
            <a:srgbClr val="ff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411280" y="2276640"/>
            <a:ext cx="432000" cy="360360"/>
          </a:xfrm>
          <a:prstGeom prst="leftArrow">
            <a:avLst>
              <a:gd name="adj1" fmla="val 50000"/>
              <a:gd name="adj2" fmla="val 29970"/>
            </a:avLst>
          </a:prstGeom>
          <a:solidFill>
            <a:srgbClr val="ff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484360" y="3716280"/>
            <a:ext cx="503280" cy="289080"/>
          </a:xfrm>
          <a:prstGeom prst="rightArrow">
            <a:avLst>
              <a:gd name="adj1" fmla="val 50000"/>
              <a:gd name="adj2" fmla="val 43524"/>
            </a:avLst>
          </a:prstGeom>
          <a:solidFill>
            <a:srgbClr val="ff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788000" y="3860640"/>
            <a:ext cx="504720" cy="432000"/>
          </a:xfrm>
          <a:prstGeom prst="rightArrow">
            <a:avLst>
              <a:gd name="adj1" fmla="val 50000"/>
              <a:gd name="adj2" fmla="val 29208"/>
            </a:avLst>
          </a:prstGeom>
          <a:solidFill>
            <a:srgbClr val="ff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716360" y="170028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187280" y="404640"/>
            <a:ext cx="5113440" cy="43200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ERN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300720" y="404640"/>
            <a:ext cx="1871640" cy="43200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HEL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8459640" y="1341360"/>
            <a:ext cx="459000" cy="4698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8459640" y="2276640"/>
            <a:ext cx="459000" cy="46980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8459640" y="3141720"/>
            <a:ext cx="459000" cy="46980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8388360" y="4076640"/>
            <a:ext cx="458640" cy="46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19T20:31:48Z</dcterms:created>
  <dc:creator>Nagymáté Péter</dc:creator>
  <dc:description/>
  <dc:language>en-US</dc:language>
  <cp:lastModifiedBy>Nagymáté Péter</cp:lastModifiedBy>
  <dcterms:modified xsi:type="dcterms:W3CDTF">2003-11-20T14:46:20Z</dcterms:modified>
  <cp:revision>15</cp:revision>
  <dc:subject/>
  <dc:title>Operációs Rendszerek</dc:title>
</cp:coreProperties>
</file>